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018A2-F8D0-45AC-B2F9-8DD9D5C1F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970F3-C6DD-47E3-BC40-82A6ECA0D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A42E5-3FBB-444F-800E-250567145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156ED-8B73-4F60-8F2F-4B3DF2B9D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B6C6C-F253-455D-B7FD-A3AFF4928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91AD-84E6-41FC-8A23-13FDB1F2F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47CD2-6D47-436D-9302-753E7EDB2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B45C4-C73E-472B-AEF6-5E3740372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04DE-3CBC-402E-A4CB-52031D9B5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F438E-4FAC-4422-8079-FB7A8B4DE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F1CF6-A5E4-45CE-80C1-B25DB48AE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27A13-C9A0-4CC1-B0E7-13AB967AD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7C9148-DD9B-41D4-AD3E-4457F312C06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58200" cy="7061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58200" cy="70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3-10-07T09:47:54Z</dcterms:modified>
  <cp:revision>84</cp:revision>
  <dc:subject/>
  <dc:title>No Slide Title</dc:title>
</cp:coreProperties>
</file>